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265-1BCE-4D14-8A4F-4DAF4579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A6B9-3F7F-4EE1-8B3B-22CDDD04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0E8-01B8-41E2-8239-C2A1BDB7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CAB5-C1EF-4713-BE85-BE8EF5E0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956-5165-48E8-8001-FA10EFEA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0D90-79A2-45AC-BE0A-B78B0E7E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617-33BE-4F21-BE24-2CCB05D2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EF0F-E802-4A82-8960-FA2E537F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103B-DBC6-43B3-AE12-78E5B24E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9EC-A826-44AA-B087-CB003264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80F0-0194-4C22-BA0C-D72CAFEC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124-482A-463E-9FF7-A5DD89E6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35B5-E55C-46AA-93E3-F9C4F0A7A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20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32360" y="450864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w Cen MT Condensed Extra Bold"/>
              </a:rPr>
              <a:t>¿hay agua en otros planet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81800" y="2781360"/>
            <a:ext cx="3562200" cy="3562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2637000"/>
            <a:ext cx="5545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n Venus, debido a las altas temperaturas, hay agua pero sólo en estado gaseoso. El vapor de agua de Venus está mezclado con varios gases, formando la atmósfera de este plan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940360" y="18900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189000"/>
            <a:ext cx="59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n Mercurio parece que hay agua en forma de hielo en el interior de cráteres no expuestos al S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32720" y="22050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rcu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50160" y="623736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4941720"/>
            <a:ext cx="75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e piensa que en Marte hubo agua líquida en el pasado, pues hay cauces secos. Al parecer hay agua sólida (hielo) en los po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6160" y="3357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71640" y="26028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16360" y="333360"/>
            <a:ext cx="59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atmósfera marciana está formada por diversos gases y vapor de a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511812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n el resto de planetas el agua aparece en forma de hielo, debido a sus bajas tempera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512640"/>
            <a:ext cx="3671640" cy="2067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03640" y="-819000"/>
            <a:ext cx="6408720" cy="4806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8360" y="270828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u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547640" y="364500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2720" y="450864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pt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3284640"/>
            <a:ext cx="144000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6160" y="450864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ut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546120" cy="546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627640" y="270828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úp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205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189000"/>
            <a:ext cx="53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 nuestro satélite, la Luna, los astronautas no encontraron ni rastro de a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76720" y="5303880"/>
            <a:ext cx="356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No hay atmósfera en la Luna. Por tanto no hay vapor de a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628640"/>
            <a:ext cx="45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ños más tarde, se ha descubierto hielo en un polo lunar y en el subsu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900000" y="0"/>
            <a:ext cx="10972800" cy="8553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63640" y="4076640"/>
            <a:ext cx="590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w Cen MT Condensed Extra Bold"/>
              </a:rPr>
              <a:t>Aquí puedes ver el planeta azul, tu casa, desde la Lun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1125360"/>
            <a:ext cx="223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a Tierra es el único lugar del Sistema Solar con agua líquida en su superfi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8356680" cy="7161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78160" y="234936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 Mediterrán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-171360"/>
            <a:ext cx="216000" cy="727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6000" y="58770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ío N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292428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lta del N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364000" y="3357720"/>
            <a:ext cx="144720" cy="718920"/>
          </a:xfrm>
          <a:prstGeom prst="line">
            <a:avLst/>
          </a:prstGeom>
          <a:ln w="44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2629080" y="-65160"/>
            <a:ext cx="15433920" cy="7016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28720" y="400536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strecho de Gibral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3600" y="364500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rrientes mar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292360" y="4005360"/>
            <a:ext cx="863640" cy="21564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252360" y="-189000"/>
            <a:ext cx="9648720" cy="7236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4360" y="907920"/>
            <a:ext cx="255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 Extra Bold"/>
              </a:rPr>
              <a:t>La Tierra es el“Planeta Azul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 Extra Bold"/>
              </a:rPr>
              <a:t>Buena parte de su superficie está cubierta por mares y océa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20:59:39Z</dcterms:created>
  <dc:creator>euyin</dc:creator>
  <dc:description/>
  <dc:language>en-US</dc:language>
  <cp:lastModifiedBy>Eugenio</cp:lastModifiedBy>
  <dcterms:modified xsi:type="dcterms:W3CDTF">2009-12-24T12:24:00Z</dcterms:modified>
  <cp:revision>411</cp:revision>
  <dc:subject/>
  <dc:title>Diapositiva 1</dc:title>
</cp:coreProperties>
</file>